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518-2CC8-4258-B651-A2173949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215-CE14-43DE-816D-8A3A8A7E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3FB-A79D-4DFE-905F-4A058563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403-03DF-4484-B724-3B817587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E36-A125-4BE5-B8BC-F17F33F7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8D9-5912-4ED2-8A5E-E369F72C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9C6-C823-4A99-A7AB-BCD311B8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835-73B6-4D36-957D-CC7E59BC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5AA-5DB6-4AD9-A0A8-1FCFBC1B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8C2-DD50-4085-B123-5BEFA479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D2F-760C-4253-9DDB-69F4725B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B5E-0DD0-4418-8839-9DEDE3F4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35FF-0B1D-459E-97DE-83422B774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MPj04373210000[1]"/>
          <p:cNvPicPr/>
          <p:nvPr/>
        </p:nvPicPr>
        <p:blipFill>
          <a:blip r:embed="rId1"/>
          <a:stretch/>
        </p:blipFill>
        <p:spPr>
          <a:xfrm>
            <a:off x="1457280" y="228600"/>
            <a:ext cx="6229440" cy="6400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MPj04373210000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1752480" y="2209680"/>
            <a:ext cx="5639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lay Plane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10"/>
          <p:cNvSpPr txBox="1"/>
          <p:nvPr/>
        </p:nvSpPr>
        <p:spPr>
          <a:xfrm rot="2604000">
            <a:off x="6934320" y="838080"/>
            <a:ext cx="19810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$2 ea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5" name="WordArt 11"/>
          <p:cNvSpPr txBox="1"/>
          <p:nvPr/>
        </p:nvSpPr>
        <p:spPr>
          <a:xfrm rot="18888600">
            <a:off x="323640" y="819360"/>
            <a:ext cx="19814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$2 ea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6" name="WordArt 12"/>
          <p:cNvSpPr txBox="1"/>
          <p:nvPr/>
        </p:nvSpPr>
        <p:spPr>
          <a:xfrm>
            <a:off x="380880" y="5181480"/>
            <a:ext cx="8382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Y STI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ROW them, ROLL them &amp; CATCH them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7" name="Picture 13" descr="MPj04424260000[1]"/>
          <p:cNvPicPr/>
          <p:nvPr/>
        </p:nvPicPr>
        <p:blipFill>
          <a:blip r:embed="rId5"/>
          <a:stretch/>
        </p:blipFill>
        <p:spPr>
          <a:xfrm>
            <a:off x="4191120" y="3581280"/>
            <a:ext cx="973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5:57:47Z</dcterms:created>
  <dc:creator>SAISD</dc:creator>
  <dc:description/>
  <dc:language>en-US</dc:language>
  <cp:lastModifiedBy>SAISD</cp:lastModifiedBy>
  <dcterms:modified xsi:type="dcterms:W3CDTF">2010-04-15T21:53:04Z</dcterms:modified>
  <cp:revision>5</cp:revision>
  <dc:subject/>
  <dc:title>Slide 1</dc:title>
</cp:coreProperties>
</file>